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0004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457200" y="6400800"/>
            <a:ext cx="58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Futura Md BT"/>
              </a:rPr>
              <a:t>Teaching and Learning with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sues in Implementing Technology in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7242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391040" y="1676520"/>
            <a:ext cx="77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eaching and Learning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18"/>
          <p:cNvGraphicFramePr/>
          <p:nvPr/>
        </p:nvGraphicFramePr>
        <p:xfrm>
          <a:off x="457200" y="762120"/>
          <a:ext cx="1447920" cy="21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2120"/>
                    <a:ext cx="1447920" cy="21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6" name="Group 22"/>
          <p:cNvGrpSpPr/>
          <p:nvPr/>
        </p:nvGrpSpPr>
        <p:grpSpPr>
          <a:xfrm>
            <a:off x="1981080" y="2514600"/>
            <a:ext cx="6553080" cy="75960"/>
            <a:chOff x="1981080" y="2514600"/>
            <a:chExt cx="6553080" cy="75960"/>
          </a:xfrm>
        </p:grpSpPr>
        <p:sp>
          <p:nvSpPr>
            <p:cNvPr id="47" name="Line 20"/>
            <p:cNvSpPr/>
            <p:nvPr/>
          </p:nvSpPr>
          <p:spPr>
            <a:xfrm>
              <a:off x="1981080" y="25146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21"/>
            <p:cNvSpPr/>
            <p:nvPr/>
          </p:nvSpPr>
          <p:spPr>
            <a:xfrm>
              <a:off x="1981080" y="25905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ren have a right to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about a child cannot be shared without parental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should take steps to ensure privac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ting parental permission before putting student work or pictures on a class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ng children’s information including name, age, grad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19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should take steps to ensure privac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ding access to a computer to which the teacher is logg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ing storing sensitive files on an unprotected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couraging that every child use his/her disk to store work rather than on accessible hard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2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abl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ust ensure appropriate use of technology in their class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cts have acceptable use policies that define appropriate uses of school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ensure acceptable use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ing AUPs with you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ing students and parents to sign an A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Internet use and sites visi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4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35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i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ing or installing software on multiple machines may be il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ess a site license allows, software can be installed on only one machine in a classro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administrators are often charged with the responsibility to monitor licensing on both the network and any machines attached to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4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i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piracy is a copyright vi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can discourage piracy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ing appropriate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ing district policies with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using to allow students to bring software into their class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all software used in the classroom has original disks and documentation avail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0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51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ci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gital Div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quities of access to technology have created technological haves and have-n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ap, the digital divide, is often related to socio-economic status, ethnic, gender, and education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can design activities that bridge the gap and reduce technological inequ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59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tent of the Internet is not regu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 posted may be harmful and danger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since the Net is an open forum for free speech, should expression be regu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responsibility i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use and access to what is academically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tudent’s digital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6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appropriate balance between privacy and monitoring of activ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s it OK to monitor where people go and what they do on the Interne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’s responsibility i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student’s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 and enforce AUPs by monitoring activity of all working on a school’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75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thic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ademic Dishon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sharing information has led to a rise in dishonest use of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ting and plagiarizing is facilitated by web sites that post and share work and by software that allows an easy cut and p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dishonesty, schools sho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and enforce digital dishonesty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anti-plagiarism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8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y rendered 3-D environments will immerse students in worlds they can explore and manip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technology progresses, students will be able to take full-immersion field trips to these wor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velopment of full sensory environments will address all learning p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91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range planning that takes into account all aspects of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cessary to make wise and cost effective technolog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 of the setting in which plan will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OT Analysis to determine Strengths, Weaknesses, Opportunities and Threats affecting the institution making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55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ral networks, fuzzy logic, and expert systems will change software so that it will be able to interact naturally with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al software will become more like individualized tutors as this software evo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will have a personal digital “agent” to assist them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99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bandwidth improves, network based interaction will be come na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, audio, and live webcasts will connect teachers and students from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s may evolve so that our home machines can all connect to each other for sharing making instant learning communitie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0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reless networks will evolve and become more rel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ofitting schools will cease to be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PDAs, students will be able to connect to the school’s network from any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nodes in each classroom will be a thing of the p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15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nding technologies into a single multi-purpose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chools, convergence will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use of limited resources since less equipment will need to be ac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ime and resources spent in training on diverse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ier integration of equipment into the class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2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as App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digital technology becomes as common as a household appliance, schools will need to lag behind societal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choo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cket PCs will be a common educational appliance that allows instant access from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will need to change to accommodate more opportunities an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0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31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s as App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choo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will become highly individualized with intelligent agents assisting teachers in helping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ment and student progress will be easily track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al electronic feedback would allow for constant adjustments to refine and revise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8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39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Lite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using a computer will become an essential skill like 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will be able to count on computer literacy as an entry level skill and will not have to spend time teaching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enhanced instruction will be easier to used and more extensive throughout curriculum at all grade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4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ure of instruction may change as technology broadens the ways it can be deli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walls will give way to virtual communities of lear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may come together in Master Teacher Teams to share their expertise world 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s will no longer remain isol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55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Role of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will continue to play a larger and larger role in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ical tools will become easier to use and more sophist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you can include and tap into when designing instruction will be limit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will help empower student’s to learn and you to t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26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on statement that describes the purpose of the institution and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that set the intended overall directions that are desired to be achieved by th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 with Criteria that articulate specific outcomes that will achieve the goals and the criteria that will be used to measure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es that describe what activities will be engaged in to achieve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6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 plan describes how the strategies will be assessed to ensure they have achieved the stated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semination describes how the plan will be shared with al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eams include representatives from all interested par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teams create the plan, oversee its implementation, and disseminate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71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a strategic plan for technology is created, disseminated and approved, the planning team begin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ion Plan is drawn up that describes each action necessary for implementing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organized chronologically, the Action Plan includes acquisitions, installations, training, etc for all aspects of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79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are one of the primary stakeholders in educational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eachers have a critical role in the strategic plann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on planning teams need to stay awar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and emerging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s relating to using technology in class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al, legal, and ethical issues in the Digital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87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and 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protects the interest of the individual who created intellectual property such as writings, graphics, photos, music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Use Guidelines determine when a teacher can legally use copyrighted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ir Use limitations are specific and teachers must follow them to avoid violation of copyright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95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and 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ating copyright can result in legal action against the teacher, school, and/or distr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have a responsibility to understand copyright laws and follow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copyright resources in schools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ool administ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lished distric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2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03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3200400" y="64008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lyn and Bacon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gal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 and Fai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n doubt don’t use the materials or ask for permission to us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k per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for contact information on the work or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or email the contact and explain exactly how the materials will be used, for how long, and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sk for permission, do not use the materials unless you have the ok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ep all permissions on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457200" y="457200"/>
          <a:ext cx="955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95580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Group 6"/>
          <p:cNvGrpSpPr/>
          <p:nvPr/>
        </p:nvGrpSpPr>
        <p:grpSpPr>
          <a:xfrm>
            <a:off x="1600200" y="1600200"/>
            <a:ext cx="6553080" cy="75960"/>
            <a:chOff x="1600200" y="1600200"/>
            <a:chExt cx="6553080" cy="75960"/>
          </a:xfrm>
        </p:grpSpPr>
        <p:sp>
          <p:nvSpPr>
            <p:cNvPr id="111" name="Line 7"/>
            <p:cNvSpPr/>
            <p:nvPr/>
          </p:nvSpPr>
          <p:spPr>
            <a:xfrm>
              <a:off x="1600200" y="1600200"/>
              <a:ext cx="6553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600200" y="1676160"/>
              <a:ext cx="6553080" cy="0"/>
            </a:xfrm>
            <a:prstGeom prst="line">
              <a:avLst/>
            </a:prstGeom>
            <a:ln w="57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9T00:09:04Z</dcterms:created>
  <dc:creator>Unknown User</dc:creator>
  <dc:description/>
  <dc:language>en-US</dc:language>
  <cp:lastModifiedBy>AB_Buckrie</cp:lastModifiedBy>
  <dcterms:modified xsi:type="dcterms:W3CDTF">2017-02-03T04:56:06Z</dcterms:modified>
  <cp:revision>55</cp:revision>
  <dc:subject/>
  <dc:title>Theoretical Foundations</dc:title>
</cp:coreProperties>
</file>